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15.png" ContentType="image/png"/>
  <Override PartName="/ppt/media/image18.png" ContentType="image/png"/>
  <Override PartName="/ppt/media/image28.jpeg" ContentType="image/jpeg"/>
  <Override PartName="/ppt/media/image13.png" ContentType="image/png"/>
  <Override PartName="/ppt/media/image8.wmf" ContentType="image/x-wmf"/>
  <Override PartName="/ppt/media/image30.jpeg" ContentType="image/jpeg"/>
  <Override PartName="/ppt/media/image7.wmf" ContentType="image/x-wmf"/>
  <Override PartName="/ppt/media/image34.jpeg" ContentType="image/jpeg"/>
  <Override PartName="/ppt/media/image37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jpeg" ContentType="image/jpeg"/>
  <Override PartName="/ppt/media/image38.png" ContentType="image/png"/>
  <Override PartName="/ppt/media/image9.wmf" ContentType="image/x-wmf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728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728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E25A2B-8EB9-477B-AFD5-A09C39EFA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37E062-8F6C-40FD-B7D3-F4700C006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CAD8AB-AED9-46D9-B955-D1C9818B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69B51A-1A3C-4EDB-A01B-D8B9E6BDD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62A279-99E6-4B11-A6A3-D9AC921C0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24778D-F6AB-49BC-8448-03CEF1478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6E79B4-D29C-4739-970D-CD6AE5226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5782D5-100F-457F-BDB2-F08C4FD38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1EC594-2365-4B75-BAF7-F0CC38C49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3755DA-C549-4025-98CD-55BDDCE66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500CB8-FE67-466C-AAED-15B416991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93A0AB-96FA-4740-B95D-5C6138FF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547F51-A888-497A-8897-108ADC76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F5DC9C-4133-40E7-9F5C-22FCD235B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A0FDB9-C97B-424D-98B3-AB74BC7F0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713-FA70-4B2D-828B-52587E02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14D-6721-4973-A6A1-6350B30C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BF8D0-A014-4E3E-9568-E43F6894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7492F-DBF5-462F-8975-FB38806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3B294-9735-426D-A3D4-8991782A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99176-1FA0-4973-BE4A-FF2C46E0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89B97-D77B-4038-B5A7-1C931BA3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5E24C-B23A-4A77-9B8B-250EB03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800AE-07DB-45AE-A360-219B6D22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E84F8-39ED-4A4B-80DC-F0BF8E03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86B5C-D3CF-4B7E-8AAB-6B147471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98205-AA4D-4C7E-A5D1-49A0131A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425-E999-49C3-B6B2-CFD0CAEF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62F75-9959-4E5E-8332-0AE8B34E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1F4CE-A9A7-4A39-A12C-94EB9952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95AFF-1EC1-4B94-9127-CD2A8770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41B0F-5419-4ED9-8458-C7DEBA32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F0CFD-B339-4104-B524-1DEE1048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6085D-0173-4DE7-BB97-A21428D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20E3A-E7C3-49EB-90F6-13ED6548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ED9D7-E7ED-48F1-8530-185CA800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E1698-3B1B-4535-BA6A-841E1E81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ECB0F-8B7A-4D12-AAAC-12A7459E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73A-C22B-41AC-8F56-FCA34529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B8721-B2E5-4070-988D-43BB39BD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BB757-F2C7-4C4A-9712-00F24BFD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88580-ABDF-4098-B6CB-14C5376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F7D99-D244-4160-B80C-92226093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D71B6-DC10-4A3C-B692-3B9AAB82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DBFF6-60E8-4528-A7BE-FDF218C1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642AA-45FB-4BED-A05B-7A160741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62B22-76A9-4DEF-9701-DECB5EDE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5BB1C-82AA-4ACF-9A26-0995997D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15AA5-8D65-44C1-B9A0-EC7DA2DF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63CF-B948-4BAC-A8B5-565C9CBC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AC98D-E491-4655-B2DA-CB61033E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EAEEC-EAD0-4DA5-BB95-E053CE9A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21798-86DC-4E80-8E46-462B1366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4EAA2-B78C-4E8E-887C-C33A67FA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672E1-E3B0-410A-93EB-59487BAB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6E20E-BE70-4A9B-B398-346E9C74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C68B9-DE12-41A6-9606-17733122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A5706-D8E7-446B-BF58-5A90B863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964B4-EDA8-47FB-9923-29BA524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44F28-A7FA-427F-8140-A4AB6F80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27A4-B769-4A6A-B1E3-BED1BDB9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15B97-3789-4B1B-AD2B-1FAE31C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BB6EC-522D-4078-A0C4-0EA49181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B3EC8-19FC-4FD5-A23C-2366E65C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FFBF7-5D12-462C-BEE6-0948ED8A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97B8C-6B96-4AD0-A69A-505DF206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347E-4591-4E84-9218-E84ABE74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D84E-B7C4-4B0A-96BA-3988AF92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E776-E052-4729-A995-E104B248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6527-E68A-45C5-BC34-6C4E909E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D9D1-652D-4968-93D2-6E00671B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0C1-0E47-4C74-BA0F-B4FD8558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6506-5124-4AF1-8BD5-42CCEDE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B6B6-ED18-45EF-8DE0-5DCF86BB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2350-ACBD-4368-90BC-789F5E92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A493-0936-46AA-8E5A-CB4628FF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EE9C-0790-4170-A365-9E20F790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BD871-03A7-4806-9902-DF7CF0AD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6F7B-A272-4858-9295-17B5DC4A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AD35-451A-45AF-BA28-6D910BDB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4B44-BFA8-4FD6-BDF3-50A49442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E271C-7FAC-43E6-A15A-C0C52AA9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60B-471C-4DA8-BAD9-8205F0BB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198C-9B49-414A-A469-7A92F58B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F352-79E3-485B-B828-7C0DA99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BFE0-94D8-4441-8DE7-49DE2EF0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1F2E-F9D6-4F2F-B2E8-A3038A1A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1A13-5DF9-4259-B3D0-9EEF8BFE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A015-C721-4A0A-94A0-839D88F7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0BC8-7C26-4C52-B650-0E008778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752D-7478-42D7-8D23-30C05E19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61FD-E806-45FF-BC61-73929FC8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73FC-80F2-472A-BD64-07FBF7D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14B-C64E-412A-B950-73F5B0E8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25FC-01FF-420F-88EB-FD7B4968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1485-37D2-418C-AFC0-480CD1BB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F738-F3E1-4A39-B577-1B5F97FD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F51A-80DA-4816-8C05-7111C3E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CA40-5E85-4BC6-A249-FAF0998A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C7F2-C971-4B26-BAB5-7DD17E3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1088-3618-4F3E-B58A-35631E3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40EC-8982-43CB-A358-F2FC076B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A109-34E8-4BF1-9596-DB73AD5B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692CF-5AC1-4D3E-83DB-1727709B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60A-4A0E-415E-97AB-46E7C16B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79ED-738C-4A92-84E1-B34DAF37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B87FB-2C29-437B-8689-F3981564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4B95-0306-4D80-B2F3-E9D10D9E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1D1C-E85D-42AD-9B68-B9FB81D9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9F21-DEBA-4F06-9DE1-C0362DE3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BB572-A5B5-4690-A6F9-E783B1E8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CFB2-EA5E-4DEC-91E2-F8E14C37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408B7-C25F-4374-B04A-285E1D97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EF8DD-4FF3-4586-9FC8-1A8E1EDB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08011-6DBF-42C8-8D1F-26AFD9AD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602-AFA8-4980-B237-4CE50DEA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8FA5B-08B7-45FC-B45A-2049A39B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CA62-EFFF-4B74-842E-9B2FCDEF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40B5-47E3-4DA0-8250-D9C3231E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13986-DD7E-4024-B23A-A1786674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3D9DE-32CD-427D-ADD4-48BA16BF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C3EA1-76F6-4A67-81D1-B30B8D9B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87941-8D68-460F-BB2D-6D3DD372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BFD0F-287C-46A4-9D3F-6812AA69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8E725-6D67-4067-912C-DF4BF05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FF3C1-0E0E-4665-8A2B-51189E95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95B-0300-4F19-B486-CEDA453B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EAA0A-4356-447E-853A-66186741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D6F8-927B-41CC-8749-AA2CE635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9822-E277-41B1-922A-CBB35278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0F192-CD6F-4964-9971-0B0829E5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A89BF-0179-412E-A7D0-C24173CB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BF970-8DD4-40B5-9F4C-6426C091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C9E99-9EC6-477F-B85B-817D3883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3A57C-F12D-4086-B0E8-BC3AE1A9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565E7-C96F-4180-9534-159BAF40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B340-D98A-47BE-8190-5D5B1C65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0D5-721D-4CE4-A4FD-A066D60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B743-63A8-4943-AEBA-7369BA1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0EEA-F714-4F23-8942-4B053D7C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75B70-A845-4ED1-9A0A-DCE90738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20D6-6007-41C4-B03C-187F40FF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67FB9-5073-4A00-9FE1-9D29207B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B6E3E-4CF7-4386-9233-D49FC2B3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86CF-483C-4D4C-99F4-0F0F9C21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727E4-6E1A-4844-B10F-567D8B05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E9155-D5D6-4962-8763-E14C86B5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0F7B4-C7D6-4CB0-B275-F4921068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C24-58AF-4426-A1A9-042EDB6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78419-BF6A-44A8-9AE4-513BAFBD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7A383-237E-4A44-AAA0-73D73F5D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08100-DCC3-49B4-BD19-095925B3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E85AA-1C51-454A-8144-ECD4836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67135-0ABC-4D66-A3EF-51B50B32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E3AA-95BE-4825-B20E-D990C25C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8DAF-4A42-470E-BB4A-F18CC187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AD6DF-C31B-473E-BB71-689274B5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71E21-0670-426C-9916-BC9DE21D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6ADA8-8A87-4D61-A62F-518EE8AC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29F2-68CA-48D2-A596-BE640BE42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75DF-7F44-4E70-9DE1-5ACDDD3D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A55C-AF47-4E2C-8EF6-B2F0CB2EC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DD25-0751-4A32-A686-A248EF24C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9EA7-3CEF-43BC-B605-D3F220B92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4334-88A8-4D65-B6A0-4833F290B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259-E805-4254-9352-30431455A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201-18AE-4471-9D0B-36B9E5345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2455-937F-482D-89CB-8A2B4D8DD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810D-9B60-4D7F-A49E-7F4FA8421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A486-4031-491C-851A-76F570B7B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C474-6A2A-4878-AD04-782C9A3BE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4"/>
          <p:cNvSpPr/>
          <p:nvPr/>
        </p:nvSpPr>
        <p:spPr>
          <a:xfrm>
            <a:off x="0" y="525780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517212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2"/>
          <p:cNvSpPr/>
          <p:nvPr/>
        </p:nvSpPr>
        <p:spPr>
          <a:xfrm>
            <a:off x="0" y="228600"/>
            <a:ext cx="5105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t KET help you explore the Art of Kentucky and the Art of the World ! </a:t>
            </a:r>
            <a:endParaRPr b="0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3" name="TextBox 13"/>
          <p:cNvSpPr/>
          <p:nvPr/>
        </p:nvSpPr>
        <p:spPr>
          <a:xfrm>
            <a:off x="0" y="540216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KET Instructional Art Resources</a:t>
            </a:r>
            <a:endParaRPr b="0" lang="en-US" sz="4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4" name="Rectangle 15"/>
          <p:cNvSpPr/>
          <p:nvPr/>
        </p:nvSpPr>
        <p:spPr>
          <a:xfrm rot="20299200">
            <a:off x="1429920" y="3874680"/>
            <a:ext cx="1371600" cy="990720"/>
          </a:xfrm>
          <a:prstGeom prst="rect">
            <a:avLst/>
          </a:prstGeom>
          <a:solidFill>
            <a:srgbClr val="ffff00">
              <a:alpha val="8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5" name="Rectangle 16"/>
          <p:cNvSpPr/>
          <p:nvPr/>
        </p:nvSpPr>
        <p:spPr>
          <a:xfrm rot="20299200">
            <a:off x="2801520" y="3417480"/>
            <a:ext cx="1371600" cy="990720"/>
          </a:xfrm>
          <a:prstGeom prst="rect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6" name="Rectangle 17"/>
          <p:cNvSpPr/>
          <p:nvPr/>
        </p:nvSpPr>
        <p:spPr>
          <a:xfrm rot="20299200">
            <a:off x="3259080" y="3722400"/>
            <a:ext cx="1371600" cy="99036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7" name="Rectangle 18"/>
          <p:cNvSpPr/>
          <p:nvPr/>
        </p:nvSpPr>
        <p:spPr>
          <a:xfrm rot="20299200">
            <a:off x="2192040" y="3341160"/>
            <a:ext cx="1371600" cy="990720"/>
          </a:xfrm>
          <a:prstGeom prst="rect">
            <a:avLst/>
          </a:prstGeom>
          <a:solidFill>
            <a:srgbClr val="ffff00">
              <a:alpha val="8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8" name="Rectangle 20"/>
          <p:cNvSpPr/>
          <p:nvPr/>
        </p:nvSpPr>
        <p:spPr>
          <a:xfrm rot="20299200">
            <a:off x="3944880" y="3951000"/>
            <a:ext cx="1371600" cy="990360"/>
          </a:xfrm>
          <a:prstGeom prst="rect">
            <a:avLst/>
          </a:prstGeom>
          <a:solidFill>
            <a:srgbClr val="ffff00">
              <a:alpha val="8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-228600" y="0"/>
            <a:ext cx="9144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ffcc18"/>
                </a:solidFill>
                <a:latin typeface="Arial"/>
              </a:rPr>
              <a:t>Kentucky Muse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ttp://www.ket.org/muse/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5029200" y="29718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59840" cy="6095880"/>
          </a:xfrm>
          <a:prstGeom prst="rect">
            <a:avLst/>
          </a:prstGeom>
          <a:ln w="0">
            <a:noFill/>
          </a:ln>
        </p:spPr>
      </p:pic>
      <p:sp>
        <p:nvSpPr>
          <p:cNvPr id="545" name="Action Button: Custom 6"/>
          <p:cNvSpPr/>
          <p:nvPr/>
        </p:nvSpPr>
        <p:spPr>
          <a:xfrm>
            <a:off x="4114800" y="0"/>
            <a:ext cx="4572000" cy="685800"/>
          </a:xfrm>
          <a:custGeom>
            <a:avLst/>
            <a:gdLst>
              <a:gd name="textAreaLeft" fmla="*/ 44280 w 4572000"/>
              <a:gd name="textAreaRight" fmla="*/ 4527720 w 4572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3936" h="21600">
                <a:moveTo>
                  <a:pt x="0" y="0"/>
                </a:moveTo>
                <a:lnTo>
                  <a:pt x="143936" y="0"/>
                </a:lnTo>
                <a:lnTo>
                  <a:pt x="143936" y="21600"/>
                </a:lnTo>
                <a:lnTo>
                  <a:pt x="0" y="21600"/>
                </a:lnTo>
                <a:close/>
              </a:path>
              <a:path fill="lightenLess" w="143936" h="21600">
                <a:moveTo>
                  <a:pt x="0" y="0"/>
                </a:moveTo>
                <a:lnTo>
                  <a:pt x="143936" y="0"/>
                </a:lnTo>
                <a:lnTo>
                  <a:pt x="142536" y="1400"/>
                </a:lnTo>
                <a:lnTo>
                  <a:pt x="1400" y="1400"/>
                </a:lnTo>
                <a:close/>
              </a:path>
              <a:path fill="darken" w="143936" h="21600">
                <a:moveTo>
                  <a:pt x="143936" y="0"/>
                </a:moveTo>
                <a:lnTo>
                  <a:pt x="143936" y="21600"/>
                </a:lnTo>
                <a:lnTo>
                  <a:pt x="142536" y="20200"/>
                </a:lnTo>
                <a:lnTo>
                  <a:pt x="142536" y="1400"/>
                </a:lnTo>
                <a:close/>
              </a:path>
              <a:path fill="darkenLess" w="143936" h="21600">
                <a:moveTo>
                  <a:pt x="143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36" y="20200"/>
                </a:lnTo>
                <a:close/>
              </a:path>
              <a:path fill="lighten" w="143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800600" y="26668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rama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Edition (2006)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48" name="Picture 4" descr="home_drama"/>
          <p:cNvPicPr/>
          <p:nvPr/>
        </p:nvPicPr>
        <p:blipFill>
          <a:blip r:embed="rId1"/>
          <a:stretch/>
        </p:blipFill>
        <p:spPr>
          <a:xfrm>
            <a:off x="2438280" y="2514600"/>
            <a:ext cx="1962360" cy="1305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home_dance"/>
          <p:cNvPicPr/>
          <p:nvPr/>
        </p:nvPicPr>
        <p:blipFill>
          <a:blip r:embed="rId2"/>
          <a:stretch/>
        </p:blipFill>
        <p:spPr>
          <a:xfrm>
            <a:off x="2743200" y="53341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home_music"/>
          <p:cNvPicPr/>
          <p:nvPr/>
        </p:nvPicPr>
        <p:blipFill>
          <a:blip r:embed="rId3"/>
          <a:stretch/>
        </p:blipFill>
        <p:spPr>
          <a:xfrm>
            <a:off x="4648320" y="3886200"/>
            <a:ext cx="1942920" cy="1305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home_visarts"/>
          <p:cNvPicPr/>
          <p:nvPr/>
        </p:nvPicPr>
        <p:blipFill>
          <a:blip r:embed="rId4"/>
          <a:stretch/>
        </p:blipFill>
        <p:spPr>
          <a:xfrm>
            <a:off x="4438800" y="1066680"/>
            <a:ext cx="1962000" cy="1305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1"/>
          <p:cNvSpPr/>
          <p:nvPr/>
        </p:nvSpPr>
        <p:spPr>
          <a:xfrm>
            <a:off x="1143000" y="1066680"/>
            <a:ext cx="3048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sual Arts Toolkit  </a:t>
            </a: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(2005)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4495680" y="541008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nce Toolkit 2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Edition 2008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533520" y="41148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usic Arts Toolkit </a:t>
            </a: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2007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086600" cy="84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Toolkit Copyright Policy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09480" y="20570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ts Toolkit is a coyrighted product.  Printed materials may be copied for use as student handouts or in a limited fashion for sharing with other teachers (for example, copying one lesson plan to share).  The Toolkit should not be copied in its entirety.  The Toolkit videos, DVD’s, and CD-ROM should not be copied” (5).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18"/>
                </a:solidFill>
                <a:uFillTx/>
                <a:latin typeface="Arial"/>
              </a:rPr>
              <a:t>What Are the Arts Toolkits?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33520" y="533520"/>
            <a:ext cx="739116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olkits are not: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ts textbook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t un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t curricula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escriptive way of teaching the arts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ts toolkits are: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with flexibility in mind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for both the specialist and the generalis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urce for: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3048120" y="4038480"/>
            <a:ext cx="5867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ective Teaching Suggestion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 video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forms of media such as CDs, posters, transparencies, 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ference for other resour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cc1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Sections of Typical Toolkit Binder</a:t>
            </a:r>
            <a:br>
              <a:rPr sz="3600"/>
            </a:br>
            <a:r>
              <a:rPr b="1" lang="en-US" sz="2800" spc="-1" strike="noStrike">
                <a:solidFill>
                  <a:srgbClr val="ffcc18"/>
                </a:solidFill>
                <a:latin typeface="Arial"/>
              </a:rPr>
              <a:t>(Sections vary somewhat from Kit to Kit)</a:t>
            </a:r>
            <a:endParaRPr b="1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to and How to Use the Toolki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ding to the medium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ecially for Primary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edium and its interface with Culture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s and Styles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Resource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x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62" name="Picture 5" descr="j0290152"/>
          <p:cNvPicPr/>
          <p:nvPr/>
        </p:nvPicPr>
        <p:blipFill>
          <a:blip r:embed="rId10"/>
          <a:stretch/>
        </p:blipFill>
        <p:spPr>
          <a:xfrm rot="21017400">
            <a:off x="5943600" y="4527360"/>
            <a:ext cx="2819520" cy="21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A typical Toolkit lesson plan contains the following elements </a:t>
            </a:r>
            <a:r>
              <a:rPr b="1" lang="en-US" sz="2000" spc="-1" strike="noStrike">
                <a:solidFill>
                  <a:srgbClr val="ffcc18"/>
                </a:solidFill>
                <a:latin typeface="Arial"/>
              </a:rPr>
              <a:t>(using format developed by KDE)</a:t>
            </a: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rade level(s)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cademic expectation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rogram of studi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re content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ssential question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cept/objectiv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ortfolio-appropriate writing for the lesson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oolkit resourc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structional strategies and resourc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dditional idea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upport, connections, and resourc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pplications across the curriculum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pen response assessment and rubric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erformance assessment and rubric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914400" y="5638680"/>
            <a:ext cx="63244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957"/>
                </a:solidFill>
                <a:latin typeface="Arial"/>
              </a:rPr>
              <a:t>www.ket.org/arts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67" name="Picture 9" descr="j0195384"/>
          <p:cNvPicPr/>
          <p:nvPr/>
        </p:nvPicPr>
        <p:blipFill>
          <a:blip r:embed="rId1"/>
          <a:stretch/>
        </p:blipFill>
        <p:spPr>
          <a:xfrm>
            <a:off x="7728120" y="5334120"/>
            <a:ext cx="1263600" cy="1371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14"/>
          <p:cNvSpPr/>
          <p:nvPr/>
        </p:nvSpPr>
        <p:spPr>
          <a:xfrm>
            <a:off x="1447920" y="152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Arts Toolkit Website</a:t>
            </a:r>
            <a:endParaRPr b="0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69" name="Picture 17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693432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The Visual Arts Toolkit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80024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Arts Video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y. Virtual Art Museum CD-Rom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Transparencie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ring binder of Lesson Plans and Information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lor “Purposes of Art” poster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Arts Idea Card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s Toolkit Website Acces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838080" y="477360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Visual Arts Toolkit is the visual arts resource that Kentucky teachers have been asking for!  It is a great source  for the images, information, ideas, and inspiration needed for teaching Kentucky’s K-12 academic content.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74" name="Picture 16" descr=""/>
          <p:cNvPicPr/>
          <p:nvPr/>
        </p:nvPicPr>
        <p:blipFill>
          <a:blip r:embed="rId8"/>
          <a:stretch/>
        </p:blipFill>
        <p:spPr>
          <a:xfrm>
            <a:off x="963720" y="990720"/>
            <a:ext cx="33033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The Visual Arts Toolkit Videos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800240" y="457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ing to Ar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Arts and Culture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Artist’s Eye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T to the Speed Museum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5"/>
          <a:stretch/>
        </p:blipFill>
        <p:spPr>
          <a:xfrm>
            <a:off x="963720" y="990720"/>
            <a:ext cx="3303360" cy="37335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MPj03163570000[1]"/>
          <p:cNvPicPr/>
          <p:nvPr/>
        </p:nvPicPr>
        <p:blipFill>
          <a:blip r:embed="rId6"/>
          <a:stretch/>
        </p:blipFill>
        <p:spPr>
          <a:xfrm>
            <a:off x="5181480" y="4038480"/>
            <a:ext cx="365760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Sections of the Visual Arts Toolkit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the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Teaching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ding to Ar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Prim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 and Cultur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 and Styl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Ar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 works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82" name="Picture 5" descr="home_visarts"/>
          <p:cNvPicPr/>
          <p:nvPr/>
        </p:nvPicPr>
        <p:blipFill>
          <a:blip r:embed="rId13"/>
          <a:stretch/>
        </p:blipFill>
        <p:spPr>
          <a:xfrm>
            <a:off x="4495680" y="2286000"/>
            <a:ext cx="38005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18"/>
                </a:solidFill>
                <a:uFillTx/>
                <a:latin typeface="Arial"/>
              </a:rPr>
              <a:t>Your Presenter Today is:</a:t>
            </a:r>
            <a:br>
              <a:rPr sz="3600"/>
            </a:b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533520" y="1066680"/>
            <a:ext cx="85341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T Education Consultant, North Central Region 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Mail: lmoore@ket.org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11" name="Picture 4" descr="MCPE01923_0000[1]"/>
          <p:cNvPicPr/>
          <p:nvPr/>
        </p:nvPicPr>
        <p:blipFill>
          <a:blip r:embed="rId1"/>
          <a:stretch/>
        </p:blipFill>
        <p:spPr>
          <a:xfrm>
            <a:off x="5638680" y="4495680"/>
            <a:ext cx="3124440" cy="19875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4"/>
          <p:cNvSpPr/>
          <p:nvPr/>
        </p:nvSpPr>
        <p:spPr>
          <a:xfrm>
            <a:off x="228600" y="55627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 Wiki Addres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lmooreketresources.wikispaces.com/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3" name="Action Button: Custom 5"/>
          <p:cNvSpPr/>
          <p:nvPr/>
        </p:nvSpPr>
        <p:spPr>
          <a:xfrm>
            <a:off x="152280" y="5486400"/>
            <a:ext cx="5410440" cy="1371600"/>
          </a:xfrm>
          <a:custGeom>
            <a:avLst/>
            <a:gdLst>
              <a:gd name="textAreaLeft" fmla="*/ 88560 w 5410440"/>
              <a:gd name="textAreaRight" fmla="*/ 5321880 w 541044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85187" h="21600">
                <a:moveTo>
                  <a:pt x="0" y="0"/>
                </a:moveTo>
                <a:lnTo>
                  <a:pt x="85187" y="0"/>
                </a:lnTo>
                <a:lnTo>
                  <a:pt x="85187" y="21600"/>
                </a:lnTo>
                <a:lnTo>
                  <a:pt x="0" y="21600"/>
                </a:lnTo>
                <a:close/>
              </a:path>
              <a:path fill="lightenLess" w="85187" h="21600">
                <a:moveTo>
                  <a:pt x="0" y="0"/>
                </a:moveTo>
                <a:lnTo>
                  <a:pt x="85187" y="0"/>
                </a:lnTo>
                <a:lnTo>
                  <a:pt x="83787" y="1400"/>
                </a:lnTo>
                <a:lnTo>
                  <a:pt x="1400" y="1400"/>
                </a:lnTo>
                <a:close/>
              </a:path>
              <a:path fill="darken" w="85187" h="21600">
                <a:moveTo>
                  <a:pt x="85187" y="0"/>
                </a:moveTo>
                <a:lnTo>
                  <a:pt x="85187" y="21600"/>
                </a:lnTo>
                <a:lnTo>
                  <a:pt x="83787" y="20200"/>
                </a:lnTo>
                <a:lnTo>
                  <a:pt x="83787" y="1400"/>
                </a:lnTo>
                <a:close/>
              </a:path>
              <a:path fill="darkenLess" w="85187" h="21600">
                <a:moveTo>
                  <a:pt x="85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787" y="20200"/>
                </a:lnTo>
                <a:close/>
              </a:path>
              <a:path fill="lighten" w="85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4" name="Action Button: Custom 6"/>
          <p:cNvSpPr/>
          <p:nvPr/>
        </p:nvSpPr>
        <p:spPr>
          <a:xfrm>
            <a:off x="152280" y="5562720"/>
            <a:ext cx="4496040" cy="914400"/>
          </a:xfrm>
          <a:custGeom>
            <a:avLst/>
            <a:gdLst>
              <a:gd name="textAreaLeft" fmla="*/ 59040 w 4496040"/>
              <a:gd name="textAreaRight" fmla="*/ 4437000 w 4496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6172" h="21600">
                <a:moveTo>
                  <a:pt x="0" y="0"/>
                </a:moveTo>
                <a:lnTo>
                  <a:pt x="106172" y="0"/>
                </a:lnTo>
                <a:lnTo>
                  <a:pt x="106172" y="21600"/>
                </a:lnTo>
                <a:lnTo>
                  <a:pt x="0" y="21600"/>
                </a:lnTo>
                <a:close/>
              </a:path>
              <a:path fill="lightenLess" w="106172" h="21600">
                <a:moveTo>
                  <a:pt x="0" y="0"/>
                </a:moveTo>
                <a:lnTo>
                  <a:pt x="106172" y="0"/>
                </a:lnTo>
                <a:lnTo>
                  <a:pt x="104772" y="1400"/>
                </a:lnTo>
                <a:lnTo>
                  <a:pt x="1400" y="1400"/>
                </a:lnTo>
                <a:close/>
              </a:path>
              <a:path fill="darken" w="106172" h="21600">
                <a:moveTo>
                  <a:pt x="106172" y="0"/>
                </a:moveTo>
                <a:lnTo>
                  <a:pt x="106172" y="21600"/>
                </a:lnTo>
                <a:lnTo>
                  <a:pt x="104772" y="20200"/>
                </a:lnTo>
                <a:lnTo>
                  <a:pt x="104772" y="1400"/>
                </a:lnTo>
                <a:close/>
              </a:path>
              <a:path fill="darkenLess" w="106172" h="21600">
                <a:moveTo>
                  <a:pt x="106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772" y="20200"/>
                </a:lnTo>
                <a:close/>
              </a:path>
              <a:path fill="lighten" w="106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5" name="Action Button: Custom 7"/>
          <p:cNvSpPr/>
          <p:nvPr/>
        </p:nvSpPr>
        <p:spPr>
          <a:xfrm>
            <a:off x="152280" y="5943600"/>
            <a:ext cx="6705720" cy="461880"/>
          </a:xfrm>
          <a:custGeom>
            <a:avLst/>
            <a:gdLst>
              <a:gd name="textAreaLeft" fmla="*/ 29880 w 6705720"/>
              <a:gd name="textAreaRight" fmla="*/ 6675840 w 670572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313368" h="21600">
                <a:moveTo>
                  <a:pt x="0" y="0"/>
                </a:moveTo>
                <a:lnTo>
                  <a:pt x="313368" y="0"/>
                </a:lnTo>
                <a:lnTo>
                  <a:pt x="313368" y="21600"/>
                </a:lnTo>
                <a:lnTo>
                  <a:pt x="0" y="21600"/>
                </a:lnTo>
                <a:close/>
              </a:path>
              <a:path fill="lightenLess" w="313368" h="21600">
                <a:moveTo>
                  <a:pt x="0" y="0"/>
                </a:moveTo>
                <a:lnTo>
                  <a:pt x="313368" y="0"/>
                </a:lnTo>
                <a:lnTo>
                  <a:pt x="311968" y="1400"/>
                </a:lnTo>
                <a:lnTo>
                  <a:pt x="1400" y="1400"/>
                </a:lnTo>
                <a:close/>
              </a:path>
              <a:path fill="darken" w="313368" h="21600">
                <a:moveTo>
                  <a:pt x="313368" y="0"/>
                </a:moveTo>
                <a:lnTo>
                  <a:pt x="313368" y="21600"/>
                </a:lnTo>
                <a:lnTo>
                  <a:pt x="311968" y="20200"/>
                </a:lnTo>
                <a:lnTo>
                  <a:pt x="311968" y="1400"/>
                </a:lnTo>
                <a:close/>
              </a:path>
              <a:path fill="darkenLess" w="313368" h="21600">
                <a:moveTo>
                  <a:pt x="3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68" y="20200"/>
                </a:lnTo>
                <a:close/>
              </a:path>
              <a:path fill="lighten" w="3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18"/>
                </a:solidFill>
                <a:latin typeface="Arial"/>
              </a:rPr>
              <a:t>KET Drama </a:t>
            </a: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2</a:t>
            </a:r>
            <a:r>
              <a:rPr b="1" lang="en-US" sz="4000" spc="-1" strike="noStrike" baseline="30000">
                <a:solidFill>
                  <a:srgbClr val="ffcc18"/>
                </a:solidFill>
                <a:latin typeface="Arial"/>
              </a:rPr>
              <a:t>nd</a:t>
            </a:r>
            <a:r>
              <a:rPr b="1" lang="en-US" sz="4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Ed.</a:t>
            </a:r>
            <a:r>
              <a:rPr b="1" lang="en-US" sz="4800" spc="-1" strike="noStrike">
                <a:solidFill>
                  <a:srgbClr val="ffcc18"/>
                </a:solidFill>
                <a:latin typeface="Arial"/>
              </a:rPr>
              <a:t> Toolkit</a:t>
            </a:r>
            <a:r>
              <a:rPr b="1" lang="en-US" sz="5400" spc="-1" strike="noStrike">
                <a:solidFill>
                  <a:srgbClr val="ffcc18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151080" cy="5000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4"/>
          <p:cNvSpPr/>
          <p:nvPr/>
        </p:nvSpPr>
        <p:spPr>
          <a:xfrm>
            <a:off x="3733920" y="1295280"/>
            <a:ext cx="518148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Ring Binder with lesson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plans and other print resour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ge One “Page to Stage”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D- ROM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y. Department of Education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D-ROM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ma Idea Card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VHS tapes or DVDs with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performances and interview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thing correlated to  A.E.s       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with rubric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KET Drama Toolkit</a:t>
            </a:r>
            <a:r>
              <a:rPr b="1" lang="en-US" sz="54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Videos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151080" cy="500076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4"/>
          <p:cNvSpPr/>
          <p:nvPr/>
        </p:nvSpPr>
        <p:spPr>
          <a:xfrm>
            <a:off x="3886200" y="1447920"/>
            <a:ext cx="50292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ut Drama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Excerp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buki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rytelling Sampler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89" name="Picture 12" descr="MPj03163570000[1]"/>
          <p:cNvPicPr/>
          <p:nvPr/>
        </p:nvPicPr>
        <p:blipFill>
          <a:blip r:embed="rId6"/>
          <a:stretch/>
        </p:blipFill>
        <p:spPr>
          <a:xfrm>
            <a:off x="4191120" y="3886200"/>
            <a:ext cx="41907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Drama 2</a:t>
            </a:r>
            <a:r>
              <a:rPr b="1" lang="en-US" sz="4000" spc="-1" strike="noStrike" baseline="30000">
                <a:solidFill>
                  <a:srgbClr val="ffcc18"/>
                </a:solidFill>
                <a:latin typeface="Arial"/>
              </a:rPr>
              <a:t>nd</a:t>
            </a: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 Edition</a:t>
            </a:r>
            <a:br>
              <a:rPr sz="4000"/>
            </a:br>
            <a:br>
              <a:rPr sz="1400"/>
            </a:b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ding to Drama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for Primary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and Cultur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s and Styl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Drama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Y Drama Resour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92" name="Content Placeholder 5" descr="marquis.jpg"/>
          <p:cNvPicPr/>
          <p:nvPr/>
        </p:nvPicPr>
        <p:blipFill>
          <a:blip r:embed="rId11"/>
          <a:stretch/>
        </p:blipFill>
        <p:spPr>
          <a:xfrm>
            <a:off x="0" y="1066680"/>
            <a:ext cx="4978440" cy="3733920"/>
          </a:xfrm>
          <a:prstGeom prst="rect">
            <a:avLst/>
          </a:prstGeom>
          <a:ln w="0">
            <a:noFill/>
          </a:ln>
        </p:spPr>
      </p:pic>
      <p:sp>
        <p:nvSpPr>
          <p:cNvPr id="593" name="TextBox 4"/>
          <p:cNvSpPr/>
          <p:nvPr/>
        </p:nvSpPr>
        <p:spPr>
          <a:xfrm>
            <a:off x="4952880" y="1295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tions of the Ki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-228960" y="380520"/>
            <a:ext cx="4800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usic Toolkit</a:t>
            </a:r>
            <a:br>
              <a:rPr sz="4800"/>
            </a:br>
            <a:endParaRPr b="1" lang="en-US" sz="4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Music Arts Toolkit DVDs- Over 12 hours of  Video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ld of Music  CD-ROM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Arts Toolkit  binder of Lesson Plans and Information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poster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Idea Card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s Toolkit Website Acces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96" name="Picture 11" descr=""/>
          <p:cNvPicPr/>
          <p:nvPr/>
        </p:nvPicPr>
        <p:blipFill>
          <a:blip r:embed="rId7"/>
          <a:stretch/>
        </p:blipFill>
        <p:spPr>
          <a:xfrm>
            <a:off x="4724280" y="-76320"/>
            <a:ext cx="4496040" cy="30481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4" descr="MCj04315010000[1]"/>
          <p:cNvPicPr/>
          <p:nvPr/>
        </p:nvPicPr>
        <p:blipFill>
          <a:blip r:embed="rId8"/>
          <a:stretch/>
        </p:blipFill>
        <p:spPr>
          <a:xfrm>
            <a:off x="647712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496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18"/>
                </a:solidFill>
                <a:uFillTx/>
                <a:latin typeface="Arial"/>
              </a:rPr>
              <a:t>Music Toolkit</a:t>
            </a:r>
            <a:br>
              <a:rPr sz="4000"/>
            </a:b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active World of Music CD: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deo, Audio files, images, information, and activities in three areas: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Making Music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olkit World of Music Tour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istening Assessmen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00" name="Picture 4" descr="violin"/>
          <p:cNvPicPr/>
          <p:nvPr/>
        </p:nvPicPr>
        <p:blipFill>
          <a:blip r:embed="rId1"/>
          <a:stretch/>
        </p:blipFill>
        <p:spPr>
          <a:xfrm rot="6315600">
            <a:off x="5771880" y="2152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496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18"/>
                </a:solidFill>
                <a:uFillTx/>
                <a:latin typeface="Arial"/>
              </a:rPr>
              <a:t>Music Toolkit</a:t>
            </a:r>
            <a:br>
              <a:rPr sz="4000"/>
            </a:b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ee DVDs of Video: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orways to Music- 3 section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79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 Old Music For New Ears Sampler 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lvl="1" marL="779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 Music Basic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lvl="1" marL="779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  A Passion For Music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Through Time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Around the World featuring: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i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ddle East/Northern Afric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th Americ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th America</a:t>
            </a:r>
            <a:br>
              <a:rPr sz="2400"/>
            </a:b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03" name="Picture 4" descr="african drum 4"/>
          <p:cNvPicPr/>
          <p:nvPr/>
        </p:nvPicPr>
        <p:blipFill>
          <a:blip r:embed="rId4"/>
          <a:stretch/>
        </p:blipFill>
        <p:spPr>
          <a:xfrm>
            <a:off x="6647040" y="0"/>
            <a:ext cx="2573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228240" y="2895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oolkit Componen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 hours of  Video in 5 DVDs (3 brand new ones for a total of over 160 video segments!)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World of Dance and Music  CD-Rom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binder of Lesson Plans and Information correlated to 4.1 core conten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ncing Through Time” Timeline Poster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nce Idea Card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0" y="2133720"/>
            <a:ext cx="876312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nce Toolkit 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dition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KET Dance Toolkit</a:t>
            </a:r>
            <a:r>
              <a:rPr b="1" lang="en-US" sz="44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DVDs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419720" y="1143000"/>
            <a:ext cx="46479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Onstag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s of the World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ing Creative Danc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frican Roo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s from Many Cultur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erforman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Sense” Enhanced  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s of the America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09" name="Picture 4" descr="Copy (2) of home_dance"/>
          <p:cNvPicPr/>
          <p:nvPr/>
        </p:nvPicPr>
        <p:blipFill>
          <a:blip r:embed="rId9"/>
          <a:stretch/>
        </p:blipFill>
        <p:spPr>
          <a:xfrm>
            <a:off x="380880" y="12193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Sections of the Dance Toolkit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the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ding to Danc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ecially for Prim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ive Danc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and Cultur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y and Styl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Resour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12" name="Picture 4" descr="home_dance"/>
          <p:cNvPicPr/>
          <p:nvPr/>
        </p:nvPicPr>
        <p:blipFill>
          <a:blip r:embed="rId11"/>
          <a:stretch/>
        </p:blipFill>
        <p:spPr>
          <a:xfrm>
            <a:off x="4876920" y="1981080"/>
            <a:ext cx="3124080" cy="20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A typical Dance Toolkit lesson plan contains the following elements: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rade level(s)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cademic expectation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rogram of studi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re content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ssential question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cept/objectiv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ortfolio-appropriate writing for the lesson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15" name="Picture 4" descr="1448626474_9ada1af836.jpg"/>
          <p:cNvPicPr/>
          <p:nvPr/>
        </p:nvPicPr>
        <p:blipFill>
          <a:blip r:embed="rId12"/>
          <a:stretch/>
        </p:blipFill>
        <p:spPr>
          <a:xfrm>
            <a:off x="4381560" y="2209680"/>
            <a:ext cx="4233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You should leave here today with…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rief overview of how to access KET services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understanding of what the Arts toolkits are and what they are no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understanding of the materials and resources available in the Drama, Dance, Visual Arts, and Music Toolki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 Information about the newest kit, the Dance Toolkit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ddition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lkit options you will want to research further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18"/>
                </a:solidFill>
                <a:uFillTx/>
                <a:latin typeface="Arial"/>
              </a:rPr>
              <a:t>How to Order Arts Toolkits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o place your order, call Allison NeCamp at 800-945-9167 with PO or credit card number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Or FAX the order form with PO number to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859-258-7399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Or mail the form with PO, check, or credit card information to: KET Tape Duplication, 600 Cooper Dr., Lexington, KY 40502-2296.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Make checks to KET. </a:t>
            </a:r>
            <a:r>
              <a:rPr b="1" i="1" lang="en-US" sz="2800" spc="-1" strike="noStrike">
                <a:solidFill>
                  <a:srgbClr val="ffcc18"/>
                </a:solidFill>
                <a:latin typeface="Arial"/>
              </a:rPr>
              <a:t>Note: </a:t>
            </a:r>
            <a:r>
              <a:rPr b="0" i="1" lang="en-US" sz="2800" spc="-1" strike="noStrike">
                <a:solidFill>
                  <a:srgbClr val="ffcc18"/>
                </a:solidFill>
                <a:latin typeface="Arial"/>
              </a:rPr>
              <a:t>Cannot ship outside the state of Kentucky.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5"/>
          <a:stretch/>
        </p:blipFill>
        <p:spPr>
          <a:xfrm>
            <a:off x="6840360" y="4267080"/>
            <a:ext cx="23036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957"/>
                </a:solidFill>
                <a:latin typeface="Arial"/>
              </a:rPr>
              <a:t>For general information or to request a re-feed of a missed program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honda Moberly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800-432-0951 ext. 7261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moberly@ket.org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You may use this PowerPoint in whole or in part but please cite KET as the source!</a:t>
            </a: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4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5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6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KET Educational Services Provided to Kentucky Schools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al Television (ITV) Programming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Resources   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-news!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20" name="Picture 4" descr="MCj02810840000[1]"/>
          <p:cNvPicPr/>
          <p:nvPr/>
        </p:nvPicPr>
        <p:blipFill>
          <a:blip r:embed="rId10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MCj02335950000[1]"/>
          <p:cNvPicPr/>
          <p:nvPr/>
        </p:nvPicPr>
        <p:blipFill>
          <a:blip r:embed="rId11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2514600" y="3808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d the Winner Is…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ET Arts Resources!</a:t>
            </a:r>
            <a:endParaRPr b="0" lang="en-US" sz="4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228600" y="227880"/>
            <a:ext cx="2085840" cy="22208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304920" y="2743200"/>
            <a:ext cx="883908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 Best Instructional Media Award – Art To Heart: Early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Childhood Creativit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 Best Instructional Media Award- Visual Arts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 Best of the Best Award - Drama Arts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 Instructional Media-Instructional Media Product –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Drama Arts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am Production-Drama Narrative – Liz’s Circus Sto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rvard  University’s Kennedy School  Ash Institute nam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rts Toolkit  Project one of top 25 Programs of the 2008 Innovations in American Government Awards Competition!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26" name="Picture 2" descr="Kennedy School Logo"/>
          <p:cNvPicPr/>
          <p:nvPr/>
        </p:nvPicPr>
        <p:blipFill>
          <a:blip r:embed="rId3"/>
          <a:stretch/>
        </p:blipFill>
        <p:spPr>
          <a:xfrm>
            <a:off x="736560" y="304920"/>
            <a:ext cx="7721640" cy="9903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C:\Documents and Settings\lmoore\Local Settings\Temporary Internet Files\Content.IE5\N5ZPB72M\MCj02992930000[1].wmf"/>
          <p:cNvPicPr/>
          <p:nvPr/>
        </p:nvPicPr>
        <p:blipFill>
          <a:blip r:embed="rId4"/>
          <a:stretch/>
        </p:blipFill>
        <p:spPr>
          <a:xfrm>
            <a:off x="6858000" y="4267080"/>
            <a:ext cx="228600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3"/>
          <p:cNvSpPr/>
          <p:nvPr/>
        </p:nvSpPr>
        <p:spPr>
          <a:xfrm>
            <a:off x="0" y="4114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0" y="391140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KET professional development production explores the importance of visual arts, music, dance, drama, and literature in the lives of infants, toddlers, and young children.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1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ght half hour programs- Available on KET 3 or can be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purchased on DVD with print materials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dience- early childhood teachers, parents, caregiver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ite-  http://www.ket.org/arttoheart/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057400" y="6248520"/>
            <a:ext cx="4267080" cy="609480"/>
          </a:xfrm>
          <a:custGeom>
            <a:avLst/>
            <a:gdLst>
              <a:gd name="textAreaLeft" fmla="*/ 39240 w 4267080"/>
              <a:gd name="textAreaRight" fmla="*/ 4227840 w 4267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1149" h="21600">
                <a:moveTo>
                  <a:pt x="0" y="0"/>
                </a:moveTo>
                <a:lnTo>
                  <a:pt x="151149" y="0"/>
                </a:lnTo>
                <a:lnTo>
                  <a:pt x="151149" y="21600"/>
                </a:lnTo>
                <a:lnTo>
                  <a:pt x="0" y="21600"/>
                </a:lnTo>
                <a:close/>
              </a:path>
              <a:path fill="lightenLess" w="151149" h="21600">
                <a:moveTo>
                  <a:pt x="0" y="0"/>
                </a:moveTo>
                <a:lnTo>
                  <a:pt x="151149" y="0"/>
                </a:lnTo>
                <a:lnTo>
                  <a:pt x="149749" y="1400"/>
                </a:lnTo>
                <a:lnTo>
                  <a:pt x="1400" y="1400"/>
                </a:lnTo>
                <a:close/>
              </a:path>
              <a:path fill="darken" w="151149" h="21600">
                <a:moveTo>
                  <a:pt x="151149" y="0"/>
                </a:moveTo>
                <a:lnTo>
                  <a:pt x="151149" y="21600"/>
                </a:lnTo>
                <a:lnTo>
                  <a:pt x="149749" y="20200"/>
                </a:lnTo>
                <a:lnTo>
                  <a:pt x="149749" y="1400"/>
                </a:lnTo>
                <a:close/>
              </a:path>
              <a:path fill="darkenLess" w="151149" h="21600">
                <a:moveTo>
                  <a:pt x="15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49" y="20200"/>
                </a:lnTo>
                <a:close/>
              </a:path>
              <a:path fill="lighten" w="15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Another Original  KET Arts Resource!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33" name="Picture 12" descr="arteymaslogowhite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259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3" descr="ArteYMas1"/>
          <p:cNvPicPr/>
          <p:nvPr/>
        </p:nvPicPr>
        <p:blipFill>
          <a:blip r:embed="rId2"/>
          <a:stretch/>
        </p:blipFill>
        <p:spPr>
          <a:xfrm>
            <a:off x="5105520" y="3886200"/>
            <a:ext cx="3657600" cy="259092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14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0" y="0"/>
            <a:ext cx="9144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e957"/>
                </a:solidFill>
                <a:latin typeface="Arial"/>
              </a:rPr>
              <a:t>KET Web Resources at</a:t>
            </a:r>
            <a:r>
              <a:rPr b="1" i="1" lang="en-US" sz="3600" spc="-1" strike="noStrike">
                <a:solidFill>
                  <a:srgbClr val="ffe957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http://www.ket.org/arts/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5029200" y="29718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40" name="Picture 8" descr=""/>
          <p:cNvPicPr/>
          <p:nvPr/>
        </p:nvPicPr>
        <p:blipFill>
          <a:blip r:embed="rId1"/>
          <a:stretch/>
        </p:blipFill>
        <p:spPr>
          <a:xfrm>
            <a:off x="0" y="638280"/>
            <a:ext cx="9144000" cy="621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20:56Z</dcterms:created>
  <dc:creator>Mick Jeffries</dc:creator>
  <dc:description/>
  <dc:language>en-US</dc:language>
  <cp:lastModifiedBy>lmoore</cp:lastModifiedBy>
  <dcterms:modified xsi:type="dcterms:W3CDTF">2008-12-04T05:17:45Z</dcterms:modified>
  <cp:revision>81</cp:revision>
  <dc:subject/>
  <dc:title>PowerPoint Presentation</dc:title>
</cp:coreProperties>
</file>